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9C4-B488-4BDD-B250-B2D477F3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4D0-D301-4F78-97BA-6A2356AE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A8B-4DA1-4AFC-B139-0089F14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0B7-8B63-4373-BB2D-D3EE2990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C03-E1A6-41F7-92FF-D72D342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1DF-C256-41BE-83CD-4680DCB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D3B-9E07-41B7-B6BB-57C50FA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A25-5562-49D1-B9AA-81C5D89E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803-7AFD-41E1-B506-F6A73189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708-0C3F-49BA-BEF4-45E9EAF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D23-39DC-4C1A-9C9B-633BC29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D1E-AA96-4B04-8D07-A448340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8187-D997-4245-B5AD-3504DDBE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"/>
          <p:cNvPicPr/>
          <p:nvPr/>
        </p:nvPicPr>
        <p:blipFill>
          <a:blip r:embed="rId1"/>
          <a:stretch/>
        </p:blipFill>
        <p:spPr>
          <a:xfrm>
            <a:off x="390600" y="1584360"/>
            <a:ext cx="8315280" cy="456084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FED-3738-425A-828C-CEF30D554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3:34Z</dcterms:created>
  <dc:creator>Carol Koechlin</dc:creator>
  <dc:description/>
  <dc:language>en-US</dc:language>
  <cp:lastModifiedBy>Carol Koechlin</cp:lastModifiedBy>
  <dcterms:modified xsi:type="dcterms:W3CDTF">2010-04-12T15:40:01Z</dcterms:modified>
  <cp:revision>2</cp:revision>
  <dc:subject/>
  <dc:title>The Process</dc:title>
</cp:coreProperties>
</file>